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1.jpeg" ContentType="image/jpeg"/>
  <Override PartName="/ppt/media/image22.png" ContentType="image/pn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B6D-64A9-4FDE-8B3C-BF27B1F6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345-12E1-405A-9233-47868091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0E7-C3E6-41B4-9DDF-54FCD828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4C7-7B30-43DE-B315-7144E848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56E-05A4-4444-A3D7-90F155AF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739-A19A-48F4-80ED-EFABE633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048C-3223-4994-B364-DC21C16A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225-0AB0-404A-BE5F-EA2E1950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79F-CAAC-4B9A-AF6C-8F691E70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71E-EABD-4B0B-858F-30D71E94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226-6BFF-4DDA-9DBA-7221927B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6EC-DA4B-4607-BF05-FCB42B5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D9A0-E0A7-4B31-96E7-8EE6AE993CAE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u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SISTEME DE OPE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NAVIGAR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334800" y="96840"/>
            <a:ext cx="8717040" cy="144612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9" descr="creare wiki 11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334800" y="96840"/>
            <a:ext cx="8717040" cy="14461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3" descr="creare wiki 12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59840" cy="115884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3" descr="creare wiki 7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u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59840" cy="11588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6" descr="EVALUARE 1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59840" cy="115884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5" descr="EVALUARE 2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u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28240" cy="115884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4" descr="creare director 1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u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75640" cy="1158840"/>
          </a:xfrm>
          <a:prstGeom prst="rect">
            <a:avLst/>
          </a:prstGeom>
          <a:ln w="0">
            <a:noFill/>
          </a:ln>
        </p:spPr>
      </p:pic>
      <p:pic>
        <p:nvPicPr>
          <p:cNvPr id="46" name="Imagine 1" descr=""/>
          <p:cNvPicPr/>
          <p:nvPr/>
        </p:nvPicPr>
        <p:blipFill>
          <a:blip r:embed="rId2"/>
          <a:stretch/>
        </p:blipFill>
        <p:spPr>
          <a:xfrm>
            <a:off x="285840" y="214308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3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u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49" name="Imagine 4" descr=""/>
          <p:cNvPicPr/>
          <p:nvPr/>
        </p:nvPicPr>
        <p:blipFill>
          <a:blip r:embed="rId2"/>
          <a:stretch/>
        </p:blipFill>
        <p:spPr>
          <a:xfrm>
            <a:off x="357120" y="192888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3"/>
          <a:stretch/>
        </p:blipFill>
        <p:spPr>
          <a:xfrm>
            <a:off x="4714920" y="2000160"/>
            <a:ext cx="3881520" cy="291636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4"/>
          <a:stretch/>
        </p:blipFill>
        <p:spPr>
          <a:xfrm>
            <a:off x="2143080" y="383220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u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creare wiki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40800" cy="11588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3" descr="creare wiki 3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u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66320" cy="14461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4" descr="creare wiki 9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u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94840" cy="144612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8" descr="creare wiki 10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3" descr="creare wiki 4.jpg"/>
          <p:cNvPicPr/>
          <p:nvPr/>
        </p:nvPicPr>
        <p:blipFill>
          <a:blip r:embed="rId2"/>
          <a:stretch/>
        </p:blipFill>
        <p:spPr>
          <a:xfrm>
            <a:off x="457200" y="16416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Win7</cp:lastModifiedBy>
  <dcterms:modified xsi:type="dcterms:W3CDTF">2012-06-28T10:43:55Z</dcterms:modified>
  <cp:revision>7</cp:revision>
  <dc:subject/>
  <dc:title>CAPITOL 1</dc:title>
</cp:coreProperties>
</file>